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470-AB71-4432-9539-81FFE660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E2C-DA69-403E-B5E0-317D0189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572-2FDF-4B90-91F2-B728B189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83E-7C13-4A08-B8D4-A8832055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715A-2B19-4782-81BA-1E2BBBDC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3B8-EC2E-420B-AFC4-B47D3699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A45-3B2B-4A88-A042-96B3A6CD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F20-C64B-4DF2-8E45-B23E12B9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349-5DC7-445D-8BE1-0FB1D71E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7041-D77B-4A05-8C0C-52BEBBD0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193-43A1-4DCD-9A84-5770AEE2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AD8-41BA-4517-B125-98A97BD3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7CC6-2039-4969-BF68-81FAE393C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asketball" TargetMode="External"/><Relationship Id="rId2" Type="http://schemas.openxmlformats.org/officeDocument/2006/relationships/hyperlink" Target="http://www.besportier.com/archives/air-jordan-23-basketball.jpg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"/>
              </a:rPr>
              <a:t>Free Throw M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Jordan Proffi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2584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 Demi"/>
              </a:rPr>
              <a:t>Possib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esportier.com/archives/air-jordan-23-basketball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 Demi"/>
              </a:rPr>
              <a:t>Further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Basketball is played all over the world. In basketball, when players get a foul the person they foul may get to shoot a free throw. Free throws are worth one point 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 Demi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Thanks to Caleb, Andrew, Henry, Cole, Cameron, and Br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One man can be a crucial ingredient on a team, but one man cannot make a team.</a:t>
            </a:r>
            <a:br>
              <a:rPr sz="3200"/>
            </a:br>
            <a:r>
              <a:rPr b="0" i="1" lang="en-US" sz="2800" spc="-1" strike="noStrike">
                <a:solidFill>
                  <a:srgbClr val="ffffff"/>
                </a:solidFill>
                <a:latin typeface="Berlin Sans FB Demi"/>
              </a:rPr>
              <a:t>-- Kareem Abdul-Jabbar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Berlin Sans FB Dem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Free throws are shot when fouled. But can boys make more or less shots with a smaller 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29000" y="3705120"/>
            <a:ext cx="57150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Can boys make more shots with the 28.5 or 27.5 baske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11004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I predict that the boys will make more with the 28.5 basketball because that’s the basketball we use normally in practice and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813120"/>
            <a:ext cx="41148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28.5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27.5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Pa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0280" y="146376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Gather All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Test (Shoot 10 Shots E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Write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Mak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Po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Form While Shooting Free Th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Free Throw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lin Sans FB Dem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erlin Sans FB Demi"/>
              </a:rPr>
              <a:t>27.5</a:t>
            </a:r>
            <a:r>
              <a:rPr b="1" lang="en-US" sz="28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erlin Sans FB Demi"/>
              </a:rPr>
              <a:t>2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Caleb-6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Brian-3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Andrew-3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Cameron-5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Henry-7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Cole-4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Jordan-3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erlin Sans FB Dem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My hypothesis was correct. They made more with 28.5 basketball than the 27.5 basketball.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4:16:13Z</dcterms:created>
  <dc:creator>USD376</dc:creator>
  <dc:description/>
  <dc:language>en-US</dc:language>
  <cp:lastModifiedBy>USD376</cp:lastModifiedBy>
  <dcterms:modified xsi:type="dcterms:W3CDTF">2011-02-23T15:51:49Z</dcterms:modified>
  <cp:revision>19</cp:revision>
  <dc:subject/>
  <dc:title>Slide 1</dc:title>
</cp:coreProperties>
</file>